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56.jpeg" ContentType="image/jpe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60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28.jpeg" ContentType="image/jpeg"/>
  <Override PartName="/ppt/media/image32.png" ContentType="image/png"/>
  <Override PartName="/ppt/media/image2.png" ContentType="image/png"/>
  <Override PartName="/ppt/media/image61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2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55.png" ContentType="image/png"/>
  <Override PartName="/ppt/media/image58.png" ContentType="image/png"/>
  <Override PartName="/ppt/media/image46.jpeg" ContentType="image/jpeg"/>
  <Override PartName="/ppt/media/image50.png" ContentType="image/png"/>
  <Override PartName="/ppt/media/image51.png" ContentType="image/png"/>
  <Override PartName="/ppt/media/image52.png" ContentType="image/png"/>
  <Override PartName="/ppt/media/image5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2CF7-37B8-42BA-9475-E676C3EB1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9323-32A8-4E35-9B26-B79DC56458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85D3-B5A9-4C74-918A-D6B09091FF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3D9F-FFBC-40E4-9C14-8FB97EC1E1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BF90-A8C9-4099-B588-98D4D52F5D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D03F-9010-4752-A517-AD2EA11DED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FF72-9B65-4382-B356-F28824A0B1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812D-223E-44AA-8CD4-9A15A26AF8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9B4A-1B81-45FF-A813-0BC1D9B4EB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2F41-DE44-4888-B0BC-D06D6E1BB9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68EC-9ADB-4535-8EAB-9A1485E496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83A2-BA80-470B-9821-A3BDE88301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A4D6-7FAC-4BA9-AB1A-21BDD64215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B18F-5EC4-430D-9572-5A98CF3C67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AAF1-8928-467E-8B3D-A56F071B5C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E914-FC6C-4FA9-B74A-BF84FD52CE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7DAA-8188-4983-B284-CCB087E25C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2B01-4FFF-4200-8140-A551ECBE9E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6657-806E-484B-A321-551668F120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1C4-C480-4B98-BBA0-F1992395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B70-3394-45DA-92FC-29CDA384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980-0570-4C4B-93EB-86ABCCF2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1E0-1639-4F46-97B4-D747DE7A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A089-0F59-4C36-9852-AB2C29EF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E9E9-96FF-44E6-A837-D3F99463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6CCE-2E8E-4C46-B4B1-2F1778FA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5545-8FA3-4A9F-BB16-11E8D2F6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C1AB-1060-4B5D-BCB4-B9E1AB78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9C29-7AFB-4AEA-AFF8-63FF9995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9DEA-EF05-449D-A804-665818DE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C3E-12C4-46F3-9C77-0CEED7AB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7481-A0C5-4BDA-9313-590F170B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0D8C-D777-4C3C-A7CC-6F0981EC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8E90-CD4C-40EB-9D6D-EAD93A7C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05BB-01E7-4F79-BF9E-EF9D2BE6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ECA1-9EEE-4524-86E3-C136124C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633-008C-407C-A179-0A4A7FF5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3DD-DCFA-4B4B-9593-C62DCB9C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534-D912-4929-B43B-E610D7DC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8EC-42F2-46E0-B44D-82A3E356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B16-D81F-46F8-8F0B-9CDF4E68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E14-21E9-4F17-B724-76AB3307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5FA-D25F-4AF7-9799-BDE6A184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7F7F-38FB-48B1-8E9B-EF1BA15415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8B7E-216C-4B24-83FA-DC51896F91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1/qc07/hm202_01_q07fs.htm" TargetMode="External"/><Relationship Id="rId2" Type="http://schemas.openxmlformats.org/officeDocument/2006/relationships/hyperlink" Target="http://my.hrw.com/sh/hm2/0030724872/student/ch02/sec01/qc07/hm202_01_q07fs.htm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1/qc08/hm202_01_q08fs.ht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1/qc09/hm202_01_q09fs.htm" TargetMode="External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1/qc12/hm202_01_q12fs.htm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my.hrw.com/sh/hm2/0030724872/student/ch02/sec02/qc06/hm202_02_q06fs.htm" TargetMode="External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N9euz9jzwc&amp;feature=related" TargetMode="External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16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parts of an at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chemistry terms from last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orrow:  go over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b7"/>
                </a:solidFill>
                <a:latin typeface="Arial Black"/>
              </a:rPr>
              <a:t>Look at the diagrams below…what can we information do we have?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ot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of the same element that have a different number of neutrons are call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top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3408480"/>
            <a:ext cx="3809880" cy="3449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8320" y="3421080"/>
            <a:ext cx="36576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s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of two or more elements (glucose, caffe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usuall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become mor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energy level can hold 2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energy level can hold 8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energy level can hold 18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energy levels become full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become more s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30960" indent="-501480">
              <a:spcBef>
                <a:spcPts val="2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my.hrw.com/sh/hm2/0030724872/student/ch02/sec01/qc07/hm202_01_q07fs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93096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3"/>
          <a:srcRect l="64361" t="14222" r="6943" b="40112"/>
          <a:stretch/>
        </p:blipFill>
        <p:spPr>
          <a:xfrm>
            <a:off x="7543800" y="4946760"/>
            <a:ext cx="1600200" cy="1911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9880" y="1905120"/>
            <a:ext cx="106704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362320"/>
            <a:ext cx="15238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raw this…exampl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007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gen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2200" y="5486400"/>
            <a:ext cx="96984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882720" cy="1247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31640" y="1447920"/>
            <a:ext cx="1217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609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electrons in 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does it need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uncharg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electrons in Fluorin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ow many needed to be uncharg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769608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2438280" y="4959360"/>
            <a:ext cx="1981440" cy="1898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3"/>
          <a:stretch/>
        </p:blipFill>
        <p:spPr>
          <a:xfrm>
            <a:off x="5567400" y="0"/>
            <a:ext cx="3576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bon = Organic Chem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bonds readily with other elements…why do you think this happe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/c carbon has on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e- in it’s outer orbital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it readil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s e- from oth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9" descr=""/>
          <p:cNvPicPr/>
          <p:nvPr/>
        </p:nvPicPr>
        <p:blipFill>
          <a:blip r:embed="rId1"/>
          <a:stretch/>
        </p:blipFill>
        <p:spPr>
          <a:xfrm>
            <a:off x="5364000" y="3124080"/>
            <a:ext cx="3399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22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es carbon bond so readily with other ele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on our plant lab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your conclusion ADD:  Possible sources of error (mention that our plants didn’t gro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difference between covalent and ionic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vie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n isotop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atomic number tell 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mass number tell 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atoms bond with one ano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e- in th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ergy lev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-12708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ou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my.hrw.com/sh/hm2/0030724872/student/ch02/sec01/qc08/hm202_01_q08fs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61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1 electron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2 electrons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oubl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3 electrons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ripl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17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e charge of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t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over your test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our chemistry review (matter, mass, ato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or define #’s 1-8 using a 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23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can we find methane?  How did we say it effects the clim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in your Bean Lab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books to answer the following a piece of separate sheet of paper: pg 37 #1-7.  Turn in when 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 the first page, front and back of the worksh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the difference between covalent and ionic b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z Tomorr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54100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arbon Bonding Exampl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1600200"/>
            <a:ext cx="2361960" cy="2133720"/>
            <a:chOff x="0" y="1600200"/>
            <a:chExt cx="2361960" cy="2133720"/>
          </a:xfrm>
        </p:grpSpPr>
        <p:sp>
          <p:nvSpPr>
            <p:cNvPr id="177" name=""/>
            <p:cNvSpPr/>
            <p:nvPr/>
          </p:nvSpPr>
          <p:spPr>
            <a:xfrm>
              <a:off x="0" y="1600200"/>
              <a:ext cx="2361960" cy="213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0" y="1600200"/>
              <a:ext cx="2361960" cy="21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352680" y="2136600"/>
            <a:ext cx="5791320" cy="472140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304920" y="4038480"/>
            <a:ext cx="2209320" cy="2583360"/>
            <a:chOff x="304920" y="4038480"/>
            <a:chExt cx="2209320" cy="258336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304920" y="4038480"/>
              <a:ext cx="2209320" cy="206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92120" y="6192720"/>
              <a:ext cx="126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ethan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6327720" y="0"/>
            <a:ext cx="2816280" cy="20588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3276720" y="914400"/>
            <a:ext cx="2381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24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ctivation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difference between covalent and ionic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chemical reactions, reactants and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 in your worksheet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181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o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alent Bond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toms share electrons – helps both become more 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between two non-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my.hrw.com/sh/hm2/0030724872/student/ch02/sec01/qc09/hm202_01_q09fs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rcRect l="0" t="0" r="24531" b="27774"/>
          <a:stretch/>
        </p:blipFill>
        <p:spPr>
          <a:xfrm>
            <a:off x="4495680" y="3521160"/>
            <a:ext cx="4648320" cy="3336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0" y="4035600"/>
            <a:ext cx="44956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ond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s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 / molecule with a charge ( + or -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give / take electrons to become more 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Bond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d ions attracting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between a metal and a non-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my.hrw.com/sh/hm2/0030724872/student/ch02/sec01/qc12/hm202_01_q12fs.ht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666880" y="3692520"/>
            <a:ext cx="64771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320" y="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e- in Na? 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e- in Cl? 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why they bond so readi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/c the Na loses an e-, leaving a full outer sh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/c the Cl gains an e-, making it’s outer shell more f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this effect their charge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becomes +, Cl becomes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E:\LESSON OVRVW batch 3\art\BIO10NAE_01_02_02_005_LRIM_06.png"/>
          <p:cNvPicPr/>
          <p:nvPr/>
        </p:nvPicPr>
        <p:blipFill>
          <a:blip r:embed="rId1"/>
          <a:stretch/>
        </p:blipFill>
        <p:spPr>
          <a:xfrm>
            <a:off x="1440" y="4191120"/>
            <a:ext cx="9142560" cy="2666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267080" y="609480"/>
            <a:ext cx="60984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0"/>
            <a:ext cx="6094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199880" cy="1504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12477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onic Bo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rcRect l="0" t="3109" r="0" b="16661"/>
          <a:stretch/>
        </p:blipFill>
        <p:spPr>
          <a:xfrm>
            <a:off x="0" y="1351080"/>
            <a:ext cx="91440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example of an ionic bo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777744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hemical Reac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388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mical reaction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that changes one set of chemicals into another (by changing the chemical bonds that join atoms in compo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Mass and energy are conserv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ctants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ements or compounds that enter into a chemical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s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ements or compounds produced by a chemical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743200" y="4805280"/>
            <a:ext cx="4800600" cy="2052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638680" y="4800600"/>
            <a:ext cx="1905120" cy="20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800600"/>
            <a:ext cx="2895480" cy="20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other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chemical reaction in your lu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2 + H2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2CO3 (carbonic ac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is reversed in lungs and you exhale CO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" descr="E:\LESSON OVRVW batch 3\art\BIO10NAE_01_02_05_005_LRIM_01.png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21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mass and we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isotopes and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iz:  Get out a sheet of pap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n atom.  Label and indicate the charge on the following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on, neutron and electr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an isotop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the atomic number tell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es carbon bond so readily with other ato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an 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activation ener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27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why an atom would “want” to lose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activation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enzyme activity and how they are eff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Friday (probab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tivation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ation Energy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nput need to begin a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352680" y="2455920"/>
            <a:ext cx="5791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peak of each graph represents the energy needed for the reaction to go forw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difference between the required energy and the energy of the reactants is the activation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tivation energy is involved in chemical reactions whether or not the overall reaction releases or absor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2" descr="E:\LESSON OVRVW batch 3\art\BIO10NAE_01_02_05_005_LRIM_02.png"/>
          <p:cNvPicPr/>
          <p:nvPr/>
        </p:nvPicPr>
        <p:blipFill>
          <a:blip r:embed="rId1"/>
          <a:stretch/>
        </p:blipFill>
        <p:spPr>
          <a:xfrm>
            <a:off x="0" y="4191120"/>
            <a:ext cx="9144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zyme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that lower activation energy of a reaction w/o being chan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my.hrw.com/sh/hm2/0030724872/student/ch02/sec02/qc06/hm202_02_q06fs.ht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019920" y="4218120"/>
            <a:ext cx="3124080" cy="2639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E:\LESSON OVRVW batch 3\art\BIO10NAE_01_02_05_005_LRIM_03.png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zyme A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133720" y="934920"/>
            <a:ext cx="7010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 bloodstream contains an enzyme called 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  <a:ea typeface="Arial"/>
              </a:rPr>
              <a:t>carbonic anhydr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speeds up the reaction by a factor of 10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allows the reaction to takes place immediately and carbon dioxide is removed from the blood quick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7"/>
          <p:cNvPicPr/>
          <p:nvPr/>
        </p:nvPicPr>
        <p:blipFill>
          <a:blip r:embed="rId1"/>
          <a:stretch/>
        </p:blipFill>
        <p:spPr>
          <a:xfrm>
            <a:off x="2743200" y="3886200"/>
            <a:ext cx="3321000" cy="609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E:\LESSON OVRVW batch 3\art\BIO10NAE_01_02_05_005_LRIM_01.png"/>
          <p:cNvPicPr/>
          <p:nvPr/>
        </p:nvPicPr>
        <p:blipFill>
          <a:blip r:embed="rId2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b7"/>
                </a:solidFill>
                <a:latin typeface="Arial Black"/>
              </a:rPr>
              <a:t>Factors effecting enzyme activity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up with a list of factors that could affect enzyme activ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nough enzym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too man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800600" y="2801880"/>
            <a:ext cx="42670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olarit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3045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molecule has an uneven distribution of 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 Wa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3903840" cy="3962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36669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doesn’t share the 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e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ly with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if the oxygen pulls the e- closer, the oxygen then becomes partially 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negati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hydrogen will become partially 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positi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w a water molecules pola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1143000"/>
            <a:ext cx="3812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2438280"/>
            <a:ext cx="152424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3352680"/>
            <a:ext cx="152388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H bonding of water"/>
          <p:cNvPicPr/>
          <p:nvPr/>
        </p:nvPicPr>
        <p:blipFill>
          <a:blip r:embed="rId1"/>
          <a:stretch/>
        </p:blipFill>
        <p:spPr>
          <a:xfrm>
            <a:off x="5715000" y="42861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873080"/>
            <a:ext cx="80010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Composition of Matter - Ch 2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727280" y="4019040"/>
            <a:ext cx="6229440" cy="16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k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4168800"/>
            <a:ext cx="3581280" cy="2689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1946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1828800" cy="156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257800" y="3774960"/>
            <a:ext cx="28954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28 ATB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the hydrogen bonds that form in water with the partially positive hydrogen and partially negative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hydrogen bonding and surface 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/ contrast cohesion and adhe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Fri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60897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19920" y="244080"/>
            <a:ext cx="2822400" cy="36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ond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Bonds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ydrogen bond is the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orce of attra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tween a hydrogen molecule with a partial positive charge and another atom or molecule with a partial or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ull negative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 attraction between the partially negative oxygen and partially positive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gives water some VERY IMPORTANT qu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H bonding of water"/>
          <p:cNvPicPr/>
          <p:nvPr/>
        </p:nvPicPr>
        <p:blipFill>
          <a:blip r:embed="rId1"/>
          <a:stretch/>
        </p:blipFill>
        <p:spPr>
          <a:xfrm>
            <a:off x="5638680" y="4417920"/>
            <a:ext cx="3252960" cy="2440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362320" y="4648320"/>
            <a:ext cx="1744560" cy="2209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572000" y="1066680"/>
            <a:ext cx="31240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2209680"/>
            <a:ext cx="35053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76360" y="91800"/>
            <a:ext cx="5794200" cy="59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Important Qualities of Water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533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rface Ten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by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hydrogen bon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the water is able to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ists force of objec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- water “sticks” to it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s more dense, water or met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ating paper clip?!?!  Why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clip floats b/c water is weakly bonded and those bonds are not brea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1066680"/>
            <a:ext cx="251460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1523880"/>
            <a:ext cx="32767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559640" y="4495680"/>
            <a:ext cx="1584360" cy="2362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620120" y="2057400"/>
            <a:ext cx="1193760" cy="1209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971800" y="4952880"/>
            <a:ext cx="2133720" cy="1730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181480" y="5029200"/>
            <a:ext cx="1981440" cy="14860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0" y="4170240"/>
            <a:ext cx="28954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erature Mod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has the ability to absorb a relatively large amount of energy as heat and the ability to cool surfaces throug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vapo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tes of Matt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3 states of mat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state has the least energy? The mo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qui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state occupi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volu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ake shape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475160" y="3352680"/>
            <a:ext cx="4668840" cy="3505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324480" y="228600"/>
            <a:ext cx="2819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tes of Wat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ost dense state of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this import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ce was more dense lakes woul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ze solid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hing could surv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as the ice freezes the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unst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ydrogen bonds begin to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tabili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form a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gular struc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becomes less “packed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4329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715000" y="4952880"/>
            <a:ext cx="152388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00600" y="5334120"/>
            <a:ext cx="152388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5791320"/>
            <a:ext cx="30481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1911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9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187960" cy="56390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50292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ater Solubilit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solubility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ell something will dissolve in a 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vie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Water is polar or nonpol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= po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allows it to dissolve other polar / ionic sub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Salt (NaC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 of Na =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 of Cl =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e partially positive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ydrog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sociates with the Na and the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artially neg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xygen associates with the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youtube.com/watch?v=gN9euz9jzwc&amp;feature=relat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2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226120" y="0"/>
            <a:ext cx="3917880" cy="4114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276720" y="4267080"/>
            <a:ext cx="15238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4800600"/>
            <a:ext cx="15242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5257800"/>
            <a:ext cx="1752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5638680"/>
            <a:ext cx="29718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05320" y="6172200"/>
            <a:ext cx="609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4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hesion vs. Adhe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hesion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active force of similar sub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to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sion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active force of different sub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to g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capillary action or capillarity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101000" y="1219320"/>
            <a:ext cx="2043000" cy="26668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400800" y="5468760"/>
            <a:ext cx="1847880" cy="13892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3657600" y="5267160"/>
            <a:ext cx="23814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rm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86868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er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that occupies space and has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mass and we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of matter something h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we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of the pull of gravity on 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6791400" y="4551480"/>
            <a:ext cx="2352600" cy="23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2"/>
          <a:stretch/>
        </p:blipFill>
        <p:spPr>
          <a:xfrm>
            <a:off x="1066680" y="462924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2" descr="E:\LESSON OVRVW batch 3\art\BIO10NAE_01_02_03_005_LRIM_06.png"/>
          <p:cNvPicPr/>
          <p:nvPr/>
        </p:nvPicPr>
        <p:blipFill>
          <a:blip r:embed="rId1"/>
          <a:stretch/>
        </p:blipFill>
        <p:spPr>
          <a:xfrm>
            <a:off x="3809880" y="914400"/>
            <a:ext cx="4857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nished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29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urface ten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 tension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lory is awes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-3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cohesion and adhesion diffe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Surface Tension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 Tomorrow – you will be working on your review sheet for the te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– Monday or Tues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0-4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soap affect surface ten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over the review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questions for the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TOMRROW / RS D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 Tension Lab Due W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0-5 AT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out your review sheets?  Any last 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n #51 on the scan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write on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ces that cannot be broken into simpler kinds of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st particle of an element that retains the properties of that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us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protons and neut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up most of the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635800" y="3200400"/>
            <a:ext cx="3508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ly charged particles in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ly charged particles that orbit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tral particle in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0" t="4340" r="16201" b="5554"/>
          <a:stretch/>
        </p:blipFill>
        <p:spPr>
          <a:xfrm>
            <a:off x="5257800" y="3724200"/>
            <a:ext cx="38862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protons and neutrons in an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t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can have different number of neu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Carbon-12, Carbon-13 &amp; Carbon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number of isotopes of an element are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verag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at is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s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majority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rbon (~99%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SIX neutr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5715000" y="0"/>
            <a:ext cx="1676520" cy="1606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4191120" y="0"/>
            <a:ext cx="1419120" cy="1558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3962520"/>
            <a:ext cx="19051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4495680"/>
            <a:ext cx="19051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5791320"/>
            <a:ext cx="76212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380880"/>
            <a:ext cx="1447560" cy="763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505320" y="1219320"/>
            <a:ext cx="914400" cy="3808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4"/>
          <a:stretch/>
        </p:blipFill>
        <p:spPr>
          <a:xfrm>
            <a:off x="6854760" y="4343400"/>
            <a:ext cx="2289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E:\LESSON OVRVW batch 3\art\BIO10NAE_01_02_02_005_LRIM_04.png"/>
          <p:cNvPicPr/>
          <p:nvPr/>
        </p:nvPicPr>
        <p:blipFill>
          <a:blip r:embed="rId1"/>
          <a:stretch/>
        </p:blipFill>
        <p:spPr>
          <a:xfrm>
            <a:off x="0" y="373392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8:09:13Z</dcterms:created>
  <dc:creator>SASD</dc:creator>
  <dc:description/>
  <dc:language>en-US</dc:language>
  <cp:lastModifiedBy>SASD</cp:lastModifiedBy>
  <dcterms:modified xsi:type="dcterms:W3CDTF">2010-10-04T16:00:40Z</dcterms:modified>
  <cp:revision>30</cp:revision>
  <dc:subject/>
  <dc:title>Composition of Matter - Ch 2</dc:title>
</cp:coreProperties>
</file>